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735-8322-4728-B94E-9469BD16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F4D-20C1-4E75-8F13-160F413B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F8A-5C97-4587-873E-0CE55B91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9AB-4E0C-47E3-A991-469013B6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9D0-5148-4813-90A3-FB5A1D46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47D-6AB5-49F7-A372-EAF8FF42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6B4-CF16-4743-9A5B-90F3EDD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D3B-08A3-4F29-8B7E-214BF96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1E8-E82F-42F6-91C8-02815D2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FE9-1628-4BD5-8614-4FE91C5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295-DBE6-411E-B840-43DADE1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708-4B4B-422E-A877-99B500E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40C-C734-4C8F-842A-03CFF4C14F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623700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7f7f7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611280" y="5661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3-03T12:01:25Z</dcterms:modified>
  <cp:revision>759</cp:revision>
  <dc:subject/>
  <dc:title>Diapositiva 1</dc:title>
</cp:coreProperties>
</file>